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731153"/>
        <c:axId val="89039363"/>
      </c:barChart>
      <c:catAx>
        <c:axId val="317311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039363"/>
        <c:crosses val="autoZero"/>
        <c:auto val="1"/>
        <c:lblAlgn val="ctr"/>
        <c:lblOffset val="100"/>
        <c:noMultiLvlLbl val="0"/>
      </c:catAx>
      <c:valAx>
        <c:axId val="890393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7311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F7F5-0430-4A4D-B70F-CE4269C71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11D9-72F4-4B23-B2B6-A5EF152B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4E29-B7DA-4DDF-A431-7781BDF6B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82FE-F94C-4464-B1CE-10E4C999F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BAC8-240B-4E53-88EC-EC9B9D13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C913-30E0-4AF0-993A-32610CAA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85E0-560E-4A44-BCAF-3DD065A3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7B02-B225-4A61-AA8F-54E4DB92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3A9A-5CD3-4556-A50E-149BE9C3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2ED1-1461-4E91-B575-87040340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95A5-995E-405A-924C-4CB77CDF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90DF-A412-4F1F-A54E-D0B8D1EA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13EBE2-BF1D-4A37-9898-42EC67CC4E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