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145369"/>
        <c:axId val="71483174"/>
      </c:barChart>
      <c:catAx>
        <c:axId val="971453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483174"/>
        <c:crosses val="autoZero"/>
        <c:auto val="1"/>
        <c:lblAlgn val="ctr"/>
        <c:lblOffset val="100"/>
        <c:noMultiLvlLbl val="0"/>
      </c:catAx>
      <c:valAx>
        <c:axId val="714831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1453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C57A-6E40-432A-8C0E-EF8218DEA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95D9-9F86-4AB8-A330-7052EA4E7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7491-138E-4269-8515-F747B3D3E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DD73-7A7F-4D98-8804-C29723569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5533-AF62-49EF-BD11-B050687B5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4F46-CAD9-473D-9CE1-640D079E7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BB69-D6B7-4987-A076-7624F56C3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EEAE-77DB-4A22-A61E-AA5931FE9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BF25-2EDB-41EC-B089-612778F87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D5B4-21BE-460C-8E35-D33C0214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20B7-3772-4603-AF37-A63A19AF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EE31-2D59-480A-8DC9-68B2542B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9A63DD-6FC3-4E66-A3C2-3C7A1CAD0DC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