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64287"/>
        <c:axId val="80419218"/>
      </c:barChart>
      <c:catAx>
        <c:axId val="97264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19218"/>
        <c:crosses val="autoZero"/>
        <c:auto val="1"/>
        <c:lblAlgn val="ctr"/>
        <c:lblOffset val="100"/>
        <c:noMultiLvlLbl val="0"/>
      </c:catAx>
      <c:valAx>
        <c:axId val="80419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64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1CB-9432-4B20-AD87-961A4E61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59B-505A-4EA0-925C-4F875B2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956-E07F-4545-91D8-1203ECC1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4EA-22C1-46AD-BFEC-60529B14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3B8-1B75-49D6-9152-B059064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B8A-134C-42A6-9D6A-D85AF4E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C80-DBFD-4D7C-8DFD-E1F1A010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57F-DCB8-408B-A598-ED8B3D7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578-409C-49A7-9BE7-3466704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BED-2C05-4618-BBA0-9972A41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3B9-8D92-43A8-96B8-2E6A07CC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D1A-DC15-48F7-A1D0-2492410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469AA-23B1-431B-99E6-E53C5CB20F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