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13906"/>
        <c:axId val="20801755"/>
      </c:barChart>
      <c:catAx>
        <c:axId val="95013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01755"/>
        <c:crosses val="autoZero"/>
        <c:auto val="1"/>
        <c:lblAlgn val="ctr"/>
        <c:lblOffset val="100"/>
        <c:noMultiLvlLbl val="0"/>
      </c:catAx>
      <c:valAx>
        <c:axId val="20801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3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5B3-C3A9-467F-BE3D-452A70F8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A71-089A-4C65-81FB-F214F0B9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315-AF5D-49EE-A2B7-5E6297EE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843-FAF7-44AB-B1E7-165CCDBC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610-B53D-4515-8A41-9FC2DA45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13E-7EF6-45F7-A815-FADC7BD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801-4DA3-4AF6-8C05-6A27E67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FE9-FD26-4ED1-8FF2-F8B0AFAD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513-0F7C-438E-A7F8-75545589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AE0-69DE-424F-B1D1-F679C35D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242-F5F4-4718-AA4D-2A543F00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1CB-6191-4CD1-80FB-EED1C02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44348-2552-4CC7-A16F-ED67DB15B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