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069831"/>
        <c:axId val="57814916"/>
      </c:barChart>
      <c:catAx>
        <c:axId val="450698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814916"/>
        <c:crosses val="autoZero"/>
        <c:auto val="1"/>
        <c:lblAlgn val="ctr"/>
        <c:lblOffset val="100"/>
        <c:noMultiLvlLbl val="0"/>
      </c:catAx>
      <c:valAx>
        <c:axId val="578149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0698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C353-47EC-4248-AC1A-25B03E473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B54E-21AE-438B-AA5C-6CE1745F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C24F-D3C6-42F2-989D-181AAF8CF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A626-99D6-4316-9880-337F255F3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D60A-EAA2-4D27-B34B-A73C7C4B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C367-AB8D-4881-864E-06C9EB36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EF96-7649-4A8F-83FA-CC85589D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E53A-232C-4216-9793-EA69FBEC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E02A-866B-4D53-80BD-E20A384E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9422-9721-4D55-9B04-90DED56F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0D6A-866D-4757-BE92-74AFE027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E54D-E5ED-406D-BE69-08109BF8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BCD2EA-AB0E-4089-996D-5CB604C94A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