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595915"/>
        <c:axId val="94150757"/>
      </c:barChart>
      <c:catAx>
        <c:axId val="615959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50757"/>
        <c:crosses val="autoZero"/>
        <c:auto val="1"/>
        <c:lblAlgn val="ctr"/>
        <c:lblOffset val="100"/>
        <c:noMultiLvlLbl val="0"/>
      </c:catAx>
      <c:valAx>
        <c:axId val="94150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959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CBD-D64D-40F3-B637-B40F0754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DB1C-814F-4505-972C-D809E9CC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678E-FBA0-4DC7-B6DC-7848675A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4410-8BBD-4FF4-85A4-929F73A4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418B-193F-4967-ABC3-99C333CF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E87F-1ACF-4EA3-99D2-45160819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44F-A65D-4660-821D-9BD0F3B3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C0E-9D2B-43FD-BA74-F76A4107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FB74-8F05-43E3-93C2-5113450F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26A-C6F0-47D2-9E78-D0969FC7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0B8-1B04-4501-AFD6-B628BF8C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AFD5-F30C-4301-A626-B3ACA5A7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D4EA0-0919-4980-8353-55462E83C5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