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28092"/>
        <c:axId val="19216730"/>
      </c:barChart>
      <c:catAx>
        <c:axId val="91528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16730"/>
        <c:crosses val="autoZero"/>
        <c:auto val="1"/>
        <c:lblAlgn val="ctr"/>
        <c:lblOffset val="100"/>
        <c:noMultiLvlLbl val="0"/>
      </c:catAx>
      <c:valAx>
        <c:axId val="192167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28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040-F137-4663-A967-1A427131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08A-7C01-4272-83FC-7CB6CEDD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03B-DDBD-45B1-A2F6-F6322BC5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687-4788-453F-B3D7-A9F937B6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99E-1CD3-47F3-9B2E-778267B3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324-3018-4F20-9886-6A58D785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173-0B04-42DC-A2EE-A490B9C7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D9B-AF77-458F-BDE9-177C78B8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764-4B0F-4C62-AD26-6C4DBCED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5C0-C643-49E7-AF13-20D1FFA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748-A7A6-4B3E-8A64-C1EDC45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F48-E17E-4544-B48F-88293DC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1AFE6-F859-4278-8312-ED2AE0F27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