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05881"/>
        <c:axId val="39028152"/>
      </c:barChart>
      <c:catAx>
        <c:axId val="86805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28152"/>
        <c:crosses val="autoZero"/>
        <c:auto val="1"/>
        <c:lblAlgn val="ctr"/>
        <c:lblOffset val="100"/>
        <c:noMultiLvlLbl val="0"/>
      </c:catAx>
      <c:valAx>
        <c:axId val="39028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05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385-4D60-4B9F-A14F-D9E41884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BD1-DDFE-4BE0-B45B-60B4BC31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A82-ED82-45FD-9655-ABBA683E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962-6174-42CB-9018-CE109937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53F-75C7-4CA2-A52B-28AFFD5F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2AF-DE68-4516-BA71-2D036819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A9F-1F63-4608-B0E5-33CC0A7B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096-6CBA-40D8-B509-376DC633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9F6-34BB-49DD-966B-0E0A8C34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3FF-19F7-4D9C-B047-75206DC2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FA9-3F2D-418D-8EFF-D7E94063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DF8-BB4D-475D-A2EF-BCB20152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0012E-36AF-4AE8-919F-5F713A7F98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