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67300"/>
        <c:axId val="87048586"/>
      </c:barChart>
      <c:catAx>
        <c:axId val="68367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48586"/>
        <c:crosses val="autoZero"/>
        <c:auto val="1"/>
        <c:lblAlgn val="ctr"/>
        <c:lblOffset val="100"/>
        <c:noMultiLvlLbl val="0"/>
      </c:catAx>
      <c:valAx>
        <c:axId val="87048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67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AF0-7E6A-40B9-85DA-6272D97F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11F-F627-4AB3-B91C-350615AC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A466-7E6F-459C-A878-8858B2AE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5C8-191A-4287-B179-2C6F043E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59A-8154-4564-9AB6-F8E48697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75D2-B321-4164-B176-86F63EF9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4C8-4CB3-4FC2-B12A-1537EC83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D8C-24C6-4D6D-A097-7151264C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463-70B8-45C0-B6C2-75B813B1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32F-BF2F-496C-BB8C-53F92108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F88-E359-4862-8FF6-C51CC85A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FFE-73FF-4375-8C78-9E39750B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D6249-C911-45F2-91F9-C8A11E0173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