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45064"/>
        <c:axId val="5686858"/>
      </c:barChart>
      <c:catAx>
        <c:axId val="54645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6858"/>
        <c:crosses val="autoZero"/>
        <c:auto val="1"/>
        <c:lblAlgn val="ctr"/>
        <c:lblOffset val="100"/>
        <c:noMultiLvlLbl val="0"/>
      </c:catAx>
      <c:valAx>
        <c:axId val="5686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45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633-6FBD-4994-A85E-A433F775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623-34B2-49F9-9B8B-11FC53F8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C9F-0E66-45E1-BEBA-EB1566EE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6CE-F0D2-4606-913C-E9AD1D51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97A-39C5-4721-91B4-B5E00879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5E0-E894-41D3-9D6E-515ED3F1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239-C73C-404C-934D-0E438294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EF1-CD06-41DC-8129-3A551CE2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F9B-CFA3-4EB5-A406-47E877C4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884-4443-4437-B056-3B60F99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866-0A3F-4C7E-BFEF-CB469D7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D06-124A-4BEB-B5F8-1AF3DDB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302C4-8C39-4A56-AA46-43061E1678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