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26"/>
        <c:axId val="82275687"/>
      </c:barChart>
      <c:catAx>
        <c:axId val="38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75687"/>
        <c:crosses val="autoZero"/>
        <c:auto val="1"/>
        <c:lblAlgn val="ctr"/>
        <c:lblOffset val="100"/>
        <c:noMultiLvlLbl val="0"/>
      </c:catAx>
      <c:valAx>
        <c:axId val="82275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030-CDF7-4777-A40C-8C2BF6B7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556-4D98-4AFF-BA21-7F89BB4C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C59-7D7F-4F8C-A102-E0E9E8F7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529-D15E-4D25-B161-25E8C651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06F-65D3-4C12-BB8E-6B09B58A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E24-731D-43D1-9AED-EC6D3438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91C-EEC0-41C0-9A0F-85D648AB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C34-711B-44A9-A548-7603CA3E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E77-C893-4DF7-8188-A09D64C1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262-1A30-4CB1-B100-A22FD1F2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093-F8A0-45CF-827B-A52AD4D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15F-A315-4059-A9F9-4C2B0D49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10300-D65C-41EC-A740-860000B658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