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58799"/>
        <c:axId val="12205756"/>
      </c:barChart>
      <c:catAx>
        <c:axId val="16658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05756"/>
        <c:crosses val="autoZero"/>
        <c:auto val="1"/>
        <c:lblAlgn val="ctr"/>
        <c:lblOffset val="100"/>
        <c:noMultiLvlLbl val="0"/>
      </c:catAx>
      <c:valAx>
        <c:axId val="12205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58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E33-9320-4B64-87DC-144631F1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74F-7C93-4C82-AF48-963D118F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FAA-D483-4069-BF13-3869A26C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355-36D3-4AE9-B3DE-8076C7B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2AD-03FD-452C-A253-10EDE4C7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50B-2551-4742-9F30-611F50A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E3D-5F51-46C2-A3F3-0926AA5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040-7B41-4212-8BB9-CE6900E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1651-749A-4A7D-972F-DDA0A305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A760-16F9-441D-98FF-637DC094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7FB-1ECE-4924-B9FD-74600D2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372-064F-4653-8E03-5CD764C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B0C6D-1129-4F61-85BB-C653E7082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