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59133"/>
        <c:axId val="49030556"/>
      </c:barChart>
      <c:catAx>
        <c:axId val="56059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30556"/>
        <c:crosses val="autoZero"/>
        <c:auto val="1"/>
        <c:lblAlgn val="ctr"/>
        <c:lblOffset val="100"/>
        <c:noMultiLvlLbl val="0"/>
      </c:catAx>
      <c:valAx>
        <c:axId val="49030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9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0B6-A739-4166-A58A-FF50EBE2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526-466A-4D65-880A-CD7CBEB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0FD-2EE1-4F95-91E1-9DFF8365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879-480E-444F-927C-FD5B0562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5C4-83D6-4C1D-8431-58D4D8BC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775-950C-4D2C-92C6-C7AF9EE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B9C-270A-4FA8-8CD5-B38E850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778-86E6-4656-87D4-A8216E6D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DCE-182E-41A0-AEE3-9097AEE4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B61-7287-403C-8DDA-6876D7E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E29-486B-4302-BCA2-32D60DA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6A5-151D-448F-AF45-3D35E77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C5DA9-6FDB-4245-BCFF-4043C9EEF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