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96552"/>
        <c:axId val="76192649"/>
      </c:barChart>
      <c:catAx>
        <c:axId val="68965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192649"/>
        <c:crosses val="autoZero"/>
        <c:auto val="1"/>
        <c:lblAlgn val="ctr"/>
        <c:lblOffset val="100"/>
        <c:noMultiLvlLbl val="0"/>
      </c:catAx>
      <c:valAx>
        <c:axId val="761926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965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FA6E-8175-4937-83BD-983BE1366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5C13-E680-46A4-A8C2-2423144F0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102B-3D9E-448B-A51A-7F67DAC68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715B-914F-4C46-9089-ED4C1102C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C439-4625-41E3-9A95-97824DC5A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2B80-E0A1-407E-BE67-4C7C23B17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3D59-7BA3-4108-83E3-A8F3EBEC1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6A8D-5589-4C06-BABE-EEE000B1F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BFC5-9FFD-439E-A539-CE46B8104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FC66-1BF8-49A5-B0D8-F41D62523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5185-08C5-4B3F-9410-C221E55E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0774-9CE5-421B-A61B-8A7BCBB2F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DBCCB1-4D11-4863-BD7C-978AF7EF4F5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