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184274"/>
        <c:axId val="2268709"/>
      </c:barChart>
      <c:catAx>
        <c:axId val="621842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8709"/>
        <c:crosses val="autoZero"/>
        <c:auto val="1"/>
        <c:lblAlgn val="ctr"/>
        <c:lblOffset val="100"/>
        <c:noMultiLvlLbl val="0"/>
      </c:catAx>
      <c:valAx>
        <c:axId val="22687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842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91B0-4C59-4ECC-A024-CDDC3739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8160-8DC2-4D9C-A4E4-2054EEFC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3467-E32F-4E4D-9A87-4FFAF93E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7A1A-3964-4969-B282-1A1B9506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AF3A-6F46-49C8-AF9C-A8CD2514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AF55-1A5C-4D95-865A-E8978519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D2F8-0822-4D3F-80E6-12660634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515F-C61B-4280-8363-44765E83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86A5-B939-4D00-9EA4-E73E595D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9765-83A2-4D62-B805-D6B2D667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CFA1-C858-40F0-98B0-350262B9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6EF3-9824-47F0-A76C-F3138CD6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15D1B-E130-4382-8301-CF725C024D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