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709125"/>
        <c:axId val="89404548"/>
      </c:barChart>
      <c:catAx>
        <c:axId val="477091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04548"/>
        <c:crosses val="autoZero"/>
        <c:auto val="1"/>
        <c:lblAlgn val="ctr"/>
        <c:lblOffset val="100"/>
        <c:noMultiLvlLbl val="0"/>
      </c:catAx>
      <c:valAx>
        <c:axId val="894045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091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E20F-6E42-4B46-832D-DD2B4397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4E30-CE1D-47B2-BB0D-C2018DC0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06D0-5949-4395-A4AC-F455143D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674-1A00-46B1-9AE5-0B3A68D8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CC8F-9E8A-47B5-8511-C098F00B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EB78-5F5C-4C57-9B00-E2D17750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E808-9C67-4DE6-AABD-1210D53C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4D3C-DCB0-421F-8E36-94F9E3BA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C5D2-A081-4038-8D8C-3C48E516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969B-F1A4-44E9-9882-89D21DE3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1C1B-DEC7-496B-94CE-94DFA642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B80F-CA68-443E-B918-BCE5E7D6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9AC26-4E68-4451-AC46-EB66FDA306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