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56301"/>
        <c:axId val="12225937"/>
      </c:barChart>
      <c:catAx>
        <c:axId val="67456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25937"/>
        <c:crosses val="autoZero"/>
        <c:auto val="1"/>
        <c:lblAlgn val="ctr"/>
        <c:lblOffset val="100"/>
        <c:noMultiLvlLbl val="0"/>
      </c:catAx>
      <c:valAx>
        <c:axId val="12225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6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B76-4CC3-429B-BADE-6C7A4CF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D4D-B515-4D5C-AAE7-E231A74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432-918E-4AB4-B582-9E06F469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48C-1627-4A56-A70C-935E520A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611-8964-4582-82F9-9871109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072-23FE-40B0-B2A8-A0352933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CBB-86C3-482E-92BB-55B64BF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99B-5E3C-4769-A98A-DE32257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41D-BB31-4A60-8694-068F788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A67-2EC9-4455-A80B-B088EED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2BC-94DE-4DA8-8063-0B6C187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458-D025-4713-9696-7092048C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28EAA-26E6-4642-A2CB-2154A5B3C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