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618634"/>
        <c:axId val="7495758"/>
      </c:barChart>
      <c:catAx>
        <c:axId val="756186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5758"/>
        <c:crosses val="autoZero"/>
        <c:auto val="1"/>
        <c:lblAlgn val="ctr"/>
        <c:lblOffset val="100"/>
        <c:noMultiLvlLbl val="0"/>
      </c:catAx>
      <c:valAx>
        <c:axId val="74957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186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8392-84BB-4F32-8BCB-9DA2B521E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B18C-E8E3-46DA-A9E2-E6C785DA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6C27-6997-4CCC-B107-46F25B7DD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8950-EBE3-4B01-9B3C-A91C6FF7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85A7-B752-42EB-83D0-8D39BB64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34F6-13B5-4D4B-B42C-88958FFC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C733-8785-404F-A900-500F0694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D684-B6A1-4363-A3DC-0CAF8794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4C07-DDAD-4744-9B2C-F15C893E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49D0-2655-40BD-8123-AB7116A7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4BF2-167D-4ACE-B3B3-95FCC63D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E2BF-61BC-4606-8326-72690FA0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2DB810-D8D7-4227-B68F-10A078995B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