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33661"/>
        <c:axId val="31034250"/>
      </c:barChart>
      <c:catAx>
        <c:axId val="98933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34250"/>
        <c:crosses val="autoZero"/>
        <c:auto val="1"/>
        <c:lblAlgn val="ctr"/>
        <c:lblOffset val="100"/>
        <c:noMultiLvlLbl val="0"/>
      </c:catAx>
      <c:valAx>
        <c:axId val="31034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33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C79-480E-4069-B76F-2E4A49D7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A89-F10B-4B30-89C5-DDEEAC32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952-4006-47F5-8C1F-E1914957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D06-E0F5-40EE-B0EB-C860E235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DCC-DC79-424D-934D-F91FA8BA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F5A-BC63-472B-9305-C37A955F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D6C-56C9-4486-9442-FBD153BC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72F-46C4-4548-8C91-E3153535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C14-5894-4B76-AAC5-C6944B73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F2D-CCD5-40F2-9F2D-2AEFE778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398-D371-420D-81D5-8FCB98EB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4A9-A13A-4510-B1CB-7FEA753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9494E-5A13-40E7-A4E3-50EEC30547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