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61491"/>
        <c:axId val="49854492"/>
      </c:barChart>
      <c:catAx>
        <c:axId val="78361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54492"/>
        <c:crosses val="autoZero"/>
        <c:auto val="1"/>
        <c:lblAlgn val="ctr"/>
        <c:lblOffset val="100"/>
        <c:noMultiLvlLbl val="0"/>
      </c:catAx>
      <c:valAx>
        <c:axId val="49854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61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AE6-C0A1-43D8-819F-2B381695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046-838F-4F99-8D0B-63B02DE4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A32-BCBF-402A-812B-9807A934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FFB-92D2-435A-A9B4-3369E9FB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F87-44DB-49BF-9AA2-4A829B96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AA7-82E3-44BF-A128-7FB9E7C4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1D3-B05F-4330-9B9A-9D8A2A26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772-EBAD-4E2F-850B-3520F16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BD3-049F-4459-B0E1-55C00B84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4A1-4B5C-4F61-ABC2-FF60FDB6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52E-2DF3-46B5-A943-1DD19A67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4F0-4CC3-44E5-915A-8F6937E7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C1F9C-C960-48D9-A507-48DAA9E46E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