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051962"/>
        <c:axId val="64943256"/>
      </c:barChart>
      <c:catAx>
        <c:axId val="470519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43256"/>
        <c:crosses val="autoZero"/>
        <c:auto val="1"/>
        <c:lblAlgn val="ctr"/>
        <c:lblOffset val="100"/>
        <c:noMultiLvlLbl val="0"/>
      </c:catAx>
      <c:valAx>
        <c:axId val="649432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0519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7E90-3390-4E79-9EEB-D97F4992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6445-6084-45BF-9713-8B88F543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6455-8A65-4B25-8487-0F1A6725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2809-C6B1-4881-A7C9-FDE563F5C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8647-AAB1-4797-81FD-03C53511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B89C-5614-40A7-95CA-20931F3A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5294-91EB-40CD-ADC6-48BE97FE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F99A-4A30-4F37-96B4-DFFAC55E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DE54-CDA2-4644-874B-115637BD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CF9A-59F3-4FCD-8069-BDEDEEF7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8ECE-D410-4D62-BEF4-B5798890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8DB9-8F24-4251-96D0-9895F6DE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2B9C9-2AC4-4062-BAA4-224B269845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