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73705"/>
        <c:axId val="60941460"/>
      </c:barChart>
      <c:catAx>
        <c:axId val="87273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41460"/>
        <c:crosses val="autoZero"/>
        <c:auto val="1"/>
        <c:lblAlgn val="ctr"/>
        <c:lblOffset val="100"/>
        <c:noMultiLvlLbl val="0"/>
      </c:catAx>
      <c:valAx>
        <c:axId val="60941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73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C69-5CDF-47DA-88F3-05AEE621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F27-720D-41EB-B6DC-A93D8B05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96C-DBA8-4791-BBD2-F9CE38FB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148-B1A4-4E85-B609-76CC334D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B5E-2B48-433F-AABA-B39730D5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258-7F09-48FD-BFF6-135A84BA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C84-1CDC-498B-8107-0D1F869F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AB6-A951-4F7B-98BE-739132A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5B6-6763-4B1C-A8FC-1AA09A7E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DDA-82A8-43DE-8307-B3F4F02C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970-5ABA-47D1-9B4B-E7BB6D8D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77C-A237-4608-97A1-1A11D448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B997D-0D18-484C-9225-A678EC281E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