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63032"/>
        <c:axId val="58251411"/>
      </c:barChart>
      <c:catAx>
        <c:axId val="71063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51411"/>
        <c:crosses val="autoZero"/>
        <c:auto val="1"/>
        <c:lblAlgn val="ctr"/>
        <c:lblOffset val="100"/>
        <c:noMultiLvlLbl val="0"/>
      </c:catAx>
      <c:valAx>
        <c:axId val="58251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63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E02-4724-4068-A818-57669953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AA8-1468-4BFE-BF23-62064FAB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5DB-661D-4BA1-BB12-F6A6AFD3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7BD-BFAB-406D-A2A3-7923DD79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E8C-82A2-434C-BCC5-B5C1BA8D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0F7-FA81-4943-9677-498E27AB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5ED2-0495-4248-B158-D89C0E4F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741-F10F-440D-82E4-BF2F499A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554-9354-40A3-B98F-C4E8E33C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A9C4-573E-42A8-BDBA-ECC39AA5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128-75A8-42CC-80B0-57F6C805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BDE-FB9B-41D2-A0B7-A179F2E7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6D57C-9AC2-4115-9054-1B0D82F696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