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83972"/>
        <c:axId val="40597387"/>
      </c:barChart>
      <c:catAx>
        <c:axId val="96683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97387"/>
        <c:crosses val="autoZero"/>
        <c:auto val="1"/>
        <c:lblAlgn val="ctr"/>
        <c:lblOffset val="100"/>
        <c:noMultiLvlLbl val="0"/>
      </c:catAx>
      <c:valAx>
        <c:axId val="40597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83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CAC-F996-449E-AE5D-FDD05230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182-5545-4D8D-A3DD-E012464F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266-BE00-4A13-8E29-48AB3284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46A-E323-4221-BACB-E74288FE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6A7-856F-4B6A-A702-7DE8D7B4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B86-BEAD-42FB-AEDD-CE0BD39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6C2-07B5-4E43-9513-4E5B1207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70B-EA04-44A2-BC7D-C7E2F2A5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2E3-1ECA-40C3-A153-3E28CE86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417-CD13-4595-A222-5659AA41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8CF-0C28-4B12-AD7C-2EE31213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23D-9EA4-4EF8-9D5A-E6F47C05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EDDFA-9734-4ABA-854E-4CF8A7E146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