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16668"/>
        <c:axId val="90724064"/>
      </c:barChart>
      <c:catAx>
        <c:axId val="25716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24064"/>
        <c:crosses val="autoZero"/>
        <c:auto val="1"/>
        <c:lblAlgn val="ctr"/>
        <c:lblOffset val="100"/>
        <c:noMultiLvlLbl val="0"/>
      </c:catAx>
      <c:valAx>
        <c:axId val="90724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16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9B9-4C63-42BA-AE38-ECD7502B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F27-6B1D-4D4E-8362-F51AA632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634-263F-4A78-9F28-82C914E0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776-72DA-435B-B1F3-704E671D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75B-9E01-46D3-81FD-A1F1E01F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2B1-873A-4A75-86D7-F019F833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504-2A8A-4060-8224-75035762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B48-AB81-441C-9EE8-B125F5C0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519-D03D-4146-ACE8-80EF47A3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7AB-2ED6-458B-8213-F6BCA0AC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110-B24B-43D5-B8E7-40085936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732-C44A-46C3-A7FF-3B5A63DA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87EEE-C5FF-4A8F-9EB6-3DB9666546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