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48001"/>
        <c:axId val="97112987"/>
      </c:barChart>
      <c:catAx>
        <c:axId val="23348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12987"/>
        <c:crosses val="autoZero"/>
        <c:auto val="1"/>
        <c:lblAlgn val="ctr"/>
        <c:lblOffset val="100"/>
        <c:noMultiLvlLbl val="0"/>
      </c:catAx>
      <c:valAx>
        <c:axId val="97112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8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73-40FB-464D-8373-6A9FACF7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72D-D947-4222-9B83-0C83834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497-A164-427B-B825-BB206766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FE9F-73D1-4E5F-84A0-DCD0DA44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F58-3A78-45B5-8DF2-A62170D4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7C4-9DA7-4C13-B127-5AC1F0CD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7F9-4371-4540-BF1D-3DB8354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3C5-227C-433A-82F0-8F73C525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0F8-F375-40D6-B217-20952338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4B3-14C2-4FB3-B3B8-0F7558D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DAD-D75A-4115-A915-0B151B9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527-09E7-4B15-9FB6-D61C9B17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C659-0B13-4DF0-88E9-BD528B7989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