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70216"/>
        <c:axId val="46898500"/>
      </c:barChart>
      <c:catAx>
        <c:axId val="59070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98500"/>
        <c:crosses val="autoZero"/>
        <c:auto val="1"/>
        <c:lblAlgn val="ctr"/>
        <c:lblOffset val="100"/>
        <c:noMultiLvlLbl val="0"/>
      </c:catAx>
      <c:valAx>
        <c:axId val="46898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70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A64-F183-42D3-B654-7EBA82B9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E95-74D5-4246-9FF6-DB4999A1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5C5-D902-4A3A-93C1-0F1E7787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64E-6AD6-46BA-AFA4-C8A442FC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449-41A5-4583-B5BC-DCD68ECA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7EE-DA4E-4A82-AF0D-44B519AA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80A-78DC-4612-8B2E-D9117373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CE8-7A7D-47F2-8A22-59A0C0EE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11B-51D4-4DC7-BB2E-7EB4BF3E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8B9-3507-4946-8D05-1F6F4EE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64C-BBE4-4E72-A75A-6315756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598-8A49-4D07-A042-0483BC5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2BEDD-F77B-4F8B-B510-80111C9CC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