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50423"/>
        <c:axId val="11357206"/>
      </c:barChart>
      <c:catAx>
        <c:axId val="16350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7206"/>
        <c:crosses val="autoZero"/>
        <c:auto val="1"/>
        <c:lblAlgn val="ctr"/>
        <c:lblOffset val="100"/>
        <c:noMultiLvlLbl val="0"/>
      </c:catAx>
      <c:valAx>
        <c:axId val="11357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50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914-0D70-49ED-9A42-269DD064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582-3C07-4A8C-846A-56C46451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C7D-F167-4AC7-BA0D-6D9FE6A2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DF7-BC95-4A7B-9C62-6914650A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033-D756-40BA-ADA8-04738B11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3E2-C9AC-482A-9594-7598DFD4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36D-1492-44D8-84C1-9856CAD7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38D-F5E1-4F2B-A3D5-7DC47947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8E3-726C-44D2-A253-F97B0E04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784-F32D-4C9A-94D4-379A9C5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C45-37D3-45BB-B1FA-75C1B21C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16B-AE31-4649-B02F-DA2F9C2E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BD110-B634-4028-A388-94F25B8808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