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2576065"/>
        <c:axId val="50665921"/>
      </c:barChart>
      <c:catAx>
        <c:axId val="2257606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0665921"/>
        <c:crosses val="autoZero"/>
        <c:auto val="1"/>
        <c:lblAlgn val="ctr"/>
        <c:lblOffset val="100"/>
        <c:noMultiLvlLbl val="0"/>
      </c:catAx>
      <c:valAx>
        <c:axId val="5066592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57606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74424-F11F-477C-8D00-DEA8AB8BD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920F6-3785-42F9-92A5-5D46B6CA4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592AE-0E3A-4CA0-A03B-C041FCB1D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622E3-9385-4607-9E26-FB7D388B0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44908-B40A-4896-B298-A80211A54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B59D7-8995-4DEB-B10C-30C74BA1B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507B6-BF3B-4BB1-B553-D8A717D93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93E4E-8A5F-4B7F-80AD-8DF7BED2F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5D962-0A17-4216-9D84-9F7A84C86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D58BD-048D-4CCB-96A3-29CE795DD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E95B0-794D-4729-B4A5-B2C2579B6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AEACB-C65D-4FE7-8C60-E5ABE0CF4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DDC783-AE74-4F70-8AAA-D55BECC8169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