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3690"/>
        <c:axId val="94329790"/>
      </c:barChart>
      <c:catAx>
        <c:axId val="8883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9790"/>
        <c:crosses val="autoZero"/>
        <c:auto val="1"/>
        <c:lblAlgn val="ctr"/>
        <c:lblOffset val="100"/>
        <c:noMultiLvlLbl val="0"/>
      </c:catAx>
      <c:valAx>
        <c:axId val="94329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3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1ED-42F0-41BF-A66C-A93B8E97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6B3-9EFA-41E7-97CF-A0A9AF6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103-FB8C-4626-8653-71F8F15F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F2A-FB0A-4D45-A2B6-CF9C49CA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4A1-48DF-429A-B61F-8E1EAD37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FC1-3918-42DB-894F-8C8CCC5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C00-1EB7-4FA4-8FD4-329E20B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D58-4860-45BE-9AAC-FE8724A0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1B0-0F06-4F26-9E6C-B54FDBE4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45A-7DEE-4F2C-B8C3-DF49BE9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FA5-84B0-4557-9005-62686072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713-235B-454E-92B2-EF401B19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6E9FC-F745-4672-BA71-2E2599460E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