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2455"/>
        <c:axId val="27024588"/>
      </c:barChart>
      <c:catAx>
        <c:axId val="7762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24588"/>
        <c:crosses val="autoZero"/>
        <c:auto val="1"/>
        <c:lblAlgn val="ctr"/>
        <c:lblOffset val="100"/>
        <c:noMultiLvlLbl val="0"/>
      </c:catAx>
      <c:valAx>
        <c:axId val="27024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2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318-CBB0-41C1-8FAD-1CE56353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6344-AE64-4A8C-B6CE-9811CD4D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54F3-F206-4D3A-8BB6-86A932FC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C82-82DC-49C8-A522-7CE5E6EA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D2C-ABC5-49B8-B5B7-55355833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A60-5099-4C61-B46E-FFCE3183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7AB9-60F5-4F53-8A09-94E84345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11D9-5843-4485-9F20-A6E373A3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B8E-5E50-4D10-924D-CCDA0FE4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5094-6F7F-4992-88BD-9E121860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A21A-602F-4FF7-BBED-D56DE5AC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1178-C3FA-406E-B148-391C0ADE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ED7C0-DE64-44CB-9455-85022B0459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