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0681444"/>
        <c:axId val="90382854"/>
      </c:barChart>
      <c:catAx>
        <c:axId val="2068144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382854"/>
        <c:crosses val="autoZero"/>
        <c:auto val="1"/>
        <c:lblAlgn val="ctr"/>
        <c:lblOffset val="100"/>
        <c:noMultiLvlLbl val="0"/>
      </c:catAx>
      <c:valAx>
        <c:axId val="9038285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68144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DF4F7-E93C-4186-B2F5-0209F0D36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210F1-0A51-48B6-8F74-70FE2EA36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0B567-42CF-4B97-A702-EF3FFA597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7157F-728C-49B0-B306-585379523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FBA8D-E551-4ED2-8788-3414A9F88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86A9B-6D68-48A9-8BA5-0347ED839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148D7-225E-4D40-84DF-7961E8057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E528F-9F80-4A88-9D6D-0AED49842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7020E-08D7-473A-B218-B7BD9D918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034D4-B1FA-46A8-9C43-7157CB2F2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3638A-74BA-47D2-8853-1C7AF7717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1B238-F2D5-4902-BD56-0242947B8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7D95E9-02BA-4567-A4E8-4ACF1E9C8E0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