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82148"/>
        <c:axId val="5257545"/>
      </c:barChart>
      <c:catAx>
        <c:axId val="99282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7545"/>
        <c:crosses val="autoZero"/>
        <c:auto val="1"/>
        <c:lblAlgn val="ctr"/>
        <c:lblOffset val="100"/>
        <c:noMultiLvlLbl val="0"/>
      </c:catAx>
      <c:valAx>
        <c:axId val="5257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82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224-5AC2-4959-94FC-F253DB7C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9BA-CA75-4077-92C0-915317EE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927-9A8D-4200-8254-B098F634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E53-18D3-49D4-ACCB-4B5E9FDE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998-38FB-493F-BBCE-68C3B00B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3C4-FD86-4A7E-BBB4-C4429D17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D31-7B68-4530-B6A6-46BD0F67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618-CFB4-4621-B2A2-21670EE3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000-6786-41EC-A8A1-C8744354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B05-6D1D-4C08-9C11-3510A3F9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409-B356-458E-9820-CD984EBD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37A-0DFF-4653-8BE5-22D805FF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469F9-FE00-4CE2-8A84-346E89A90E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