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69238"/>
        <c:axId val="30614342"/>
      </c:barChart>
      <c:catAx>
        <c:axId val="90669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14342"/>
        <c:crosses val="autoZero"/>
        <c:auto val="1"/>
        <c:lblAlgn val="ctr"/>
        <c:lblOffset val="100"/>
        <c:noMultiLvlLbl val="0"/>
      </c:catAx>
      <c:valAx>
        <c:axId val="30614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69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B6E-CFE8-4132-9E35-CAAEF1A5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6D6-C33A-4CC9-97A4-1D4F193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76A-6BDA-4471-B891-97D8DF8B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1C9-317A-411B-9104-63C3155E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CC1-7EE7-4E48-B01D-4270ABA0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DDB-A2EF-4E8B-AE71-6FF24DD4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C79B-002F-418F-AC36-FDC0AE92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D66-A89C-4D41-9FF1-5FE48DF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66C0-1AD0-47D2-B91F-8051FFDA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EE2-DF69-4E62-A99D-514B56ED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D92-191E-4595-B9FB-C082859E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F83-7236-4E17-A1DF-83C692CD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C0A3E-F6CA-4780-9F96-6D70AE2C08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