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43157"/>
        <c:axId val="25625089"/>
      </c:barChart>
      <c:catAx>
        <c:axId val="265431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25089"/>
        <c:crosses val="autoZero"/>
        <c:auto val="1"/>
        <c:lblAlgn val="ctr"/>
        <c:lblOffset val="100"/>
        <c:noMultiLvlLbl val="0"/>
      </c:catAx>
      <c:valAx>
        <c:axId val="256250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431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24C-CE88-4270-BDC6-5D5CF727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36D-FDE5-437B-830E-4ABED02D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0A5D-6609-41D8-A74B-586F3144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23EE-EBA1-4991-8B53-AA24E8A7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A05-A4CA-42CE-ADFD-A5D203D9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FA9-BBE1-493D-8F98-431FB891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CF35-AB6E-42B9-A670-AD2DC2F4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E17-BA23-47FC-A484-A5E170B2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ECDD-FB24-47D1-8290-C1CF9CC2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749C-6E75-41F6-8880-4A9FC1B0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A027-3F68-49AC-A1A7-1BA1F936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856-B422-44AD-97D9-B9D82805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9DDA6-A784-4C59-B26C-7C5A46D23A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