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430213"/>
        <c:axId val="96037667"/>
      </c:barChart>
      <c:catAx>
        <c:axId val="324302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37667"/>
        <c:crosses val="autoZero"/>
        <c:auto val="1"/>
        <c:lblAlgn val="ctr"/>
        <c:lblOffset val="100"/>
        <c:noMultiLvlLbl val="0"/>
      </c:catAx>
      <c:valAx>
        <c:axId val="96037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302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82F7-EB0D-42C9-8431-86B6CDA5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1B0A-363B-4CD9-A135-CB37BB94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A10-18D0-4013-973E-69BF734A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DD1E-0A0E-40C3-BDE1-0F1A2185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E8F-D012-4644-B2EA-355349D5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26C-3412-4790-8621-292DCB43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1DD1-2673-4A25-9CFF-C94A6DAF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5D90-D938-40ED-AB92-DF21B55B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AFE7-B9F2-40C3-990A-4896E6C7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2574-89D9-41F3-9191-5C5E81E7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1973-E5A4-4740-A76D-B9EF2358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0A2-5C79-432D-AB30-0C49D67A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380A5-9301-4AED-AFA1-9164B85677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