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29455"/>
        <c:axId val="4359461"/>
      </c:barChart>
      <c:catAx>
        <c:axId val="67229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9461"/>
        <c:crosses val="autoZero"/>
        <c:auto val="1"/>
        <c:lblAlgn val="ctr"/>
        <c:lblOffset val="100"/>
        <c:noMultiLvlLbl val="0"/>
      </c:catAx>
      <c:valAx>
        <c:axId val="4359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29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1F4E-D1A7-449D-96AA-5CEB578E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51A-EBDA-4EFE-BD39-E88242E7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A7FF-8C23-49AC-B02D-8A8F8118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174-1DFB-4613-9DBE-1407CB92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E14-ED3F-4D25-97DB-95531336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8449-5086-4642-9604-4B27A830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C521-C53C-49BC-9697-3099D810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3DF7-431D-4C42-96D1-1C119E02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1A4-08AC-4132-B323-BC817553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A10-1B28-4A2A-9D4E-A072BEF2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C3F-8657-4B65-9F3C-3A64D695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B91-F1DC-44DA-9D67-363FB5C2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D4364-1301-41F5-8C27-8753F5C7D0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