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5489"/>
        <c:axId val="484651"/>
      </c:barChart>
      <c:catAx>
        <c:axId val="1425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651"/>
        <c:crosses val="autoZero"/>
        <c:auto val="1"/>
        <c:lblAlgn val="ctr"/>
        <c:lblOffset val="100"/>
        <c:noMultiLvlLbl val="0"/>
      </c:catAx>
      <c:valAx>
        <c:axId val="484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5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7DA-E064-48A3-A263-CF74122A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E84-EB68-4847-8FF1-AE267F3D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E70-4564-4AA2-8374-7C982177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FF6-A550-463A-8CE6-AFC7BB0E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E11-0883-49DD-BC52-1B176497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07A-653F-4F21-831A-A0475F53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C64-4FE0-4140-8BE3-F8DAD1E6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C01-9CF9-485F-A471-0090E203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8DF-652C-4CA6-994F-3544EBDB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5A1-BD91-47DE-8E14-45244898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F96-30EF-47C9-B159-5CE0AC44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13C-6E12-48AC-98E1-7A56EA3E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291B8-BDA5-4719-8F9C-6080A3D2DF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