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014024"/>
        <c:axId val="65864244"/>
      </c:barChart>
      <c:catAx>
        <c:axId val="58014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64244"/>
        <c:crosses val="autoZero"/>
        <c:auto val="1"/>
        <c:lblAlgn val="ctr"/>
        <c:lblOffset val="100"/>
        <c:noMultiLvlLbl val="0"/>
      </c:catAx>
      <c:valAx>
        <c:axId val="65864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14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D0A-02C7-4772-9003-E177D042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4F2-6C47-4B29-BB96-9C8FF910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76F-7C7D-4DBD-A4D1-9A92A5F0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689-8B57-4A14-BE88-652B3F6D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7AA-00AD-4784-8DE2-F3394C5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CAF-5AFB-45CE-8723-98C6AF99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5E1-7DA2-4975-AEED-E2227824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A51-2544-4414-B906-C8B39C5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8A7-764A-417E-81BB-F54E82A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D1A-FC99-4BEA-A9A0-278C6B7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7A1-14BB-4B8F-99D1-E8E32D09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925-3D2A-4899-A943-7188FBDF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D837A-56C5-4BA5-89FC-9F30FEA2EA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