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46712"/>
        <c:axId val="33093144"/>
      </c:barChart>
      <c:catAx>
        <c:axId val="81846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3144"/>
        <c:crosses val="autoZero"/>
        <c:auto val="1"/>
        <c:lblAlgn val="ctr"/>
        <c:lblOffset val="100"/>
        <c:noMultiLvlLbl val="0"/>
      </c:catAx>
      <c:valAx>
        <c:axId val="33093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46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1F8-C912-48AA-8F17-D848198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C81-6BC1-4DFB-A0B6-9F9EBD8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DAA-C288-4542-B05C-A0ED8403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507-5A70-4009-BCF2-336D3522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47F-529B-4ED5-8BAB-26C4153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4D0-500F-4295-9526-10E0FA3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5AF-5084-4244-9ECD-95B95A4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371-8084-40E5-A631-F7F309B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E3A-A969-4689-AB30-C6F93B7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114-0BD8-4BCF-B7B7-8AF36A5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6A8-0874-4F47-8867-A8AEB43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A7B-569E-4DA2-9D9D-C2CD8225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515F3-3183-492B-8CC6-5CF1C9B00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