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24828"/>
        <c:axId val="68133456"/>
      </c:barChart>
      <c:catAx>
        <c:axId val="25224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33456"/>
        <c:crosses val="autoZero"/>
        <c:auto val="1"/>
        <c:lblAlgn val="ctr"/>
        <c:lblOffset val="100"/>
        <c:noMultiLvlLbl val="0"/>
      </c:catAx>
      <c:valAx>
        <c:axId val="68133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24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552-D41B-4016-8DD7-D33859F6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346-A286-4301-B0A8-686C853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DBA-D0CD-42CB-B8DF-6D582F0F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725-050A-466E-8CA5-2E4E82D6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17E-6383-499D-920F-3685A5A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7CD-FA76-4936-938A-AA6B315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918-920D-4E3A-B76E-5A850ED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681-CCC4-447E-8D3C-3DB581B0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2DC-AF4A-4EA4-8F4F-258E7E1D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556-2A61-483F-A017-C31F3EF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DBE-8458-485F-A773-2A99FCC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7D0-A6BF-41AF-A794-1A7E77C9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22F6D-74F3-45C5-A873-9004A0A4EB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