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64821"/>
        <c:axId val="97620587"/>
      </c:barChart>
      <c:catAx>
        <c:axId val="18064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20587"/>
        <c:crosses val="autoZero"/>
        <c:auto val="1"/>
        <c:lblAlgn val="ctr"/>
        <c:lblOffset val="100"/>
        <c:noMultiLvlLbl val="0"/>
      </c:catAx>
      <c:valAx>
        <c:axId val="97620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64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AD4-92B7-40A9-88F6-A29AFC83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389-F8ED-457C-8FD5-3781FE64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2D4-699F-4EE3-8CA3-C6D32564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B14-3240-419A-ACB7-C08F69DB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675-9A19-4714-A7E5-D95487C4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676-AD98-42AA-955B-D38FB499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E5B-1734-48B9-8145-E56E4E4C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A5D-98F3-4A37-AABC-493D8DDF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E9C-523C-49E9-B02E-126F63CC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857-4762-4C06-AF71-3F90AA8C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8A3-836A-434F-AA0C-FA9EE08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725-2EAA-4F0F-9D67-FE74F20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57FBC-7F48-45FA-86A4-D556381C3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