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35130"/>
        <c:axId val="49086692"/>
      </c:barChart>
      <c:catAx>
        <c:axId val="65035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86692"/>
        <c:crosses val="autoZero"/>
        <c:auto val="1"/>
        <c:lblAlgn val="ctr"/>
        <c:lblOffset val="100"/>
        <c:noMultiLvlLbl val="0"/>
      </c:catAx>
      <c:valAx>
        <c:axId val="49086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35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143-231D-4317-AF09-F7951513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CA9-571A-454E-9481-57776F69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D13-8247-463E-B82F-3E46367F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50D-7FA6-417F-9310-E4DF79B8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ED6-0B7D-4044-959D-30B66538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8AF-F95D-4E9A-A64C-EF6A8D19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C5C-CE8C-49E5-8BD2-47E5918B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710-61E6-4111-B197-61E5A068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BD8-8E3E-4A3A-89CF-545D2CD5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7B8-21A2-4E85-8C51-8635EB01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359-3F9B-4181-8091-6004124F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9C43-935B-4EFF-840C-1F5E529D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E7981-1897-4225-A1E1-2A514B11EC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