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42006"/>
        <c:axId val="41482170"/>
      </c:barChart>
      <c:catAx>
        <c:axId val="99542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82170"/>
        <c:crosses val="autoZero"/>
        <c:auto val="1"/>
        <c:lblAlgn val="ctr"/>
        <c:lblOffset val="100"/>
        <c:noMultiLvlLbl val="0"/>
      </c:catAx>
      <c:valAx>
        <c:axId val="41482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42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B8B-6B4E-49DF-B806-6EED5E54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A310-72DD-4BF8-8E19-ABD29FE8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4EB6-C073-49D1-97C6-601E7120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7A8F-A3C7-4316-B46B-E0DCE6AE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EBE-682D-414F-842C-ED1A4B20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2D8-5B7A-44BD-929C-AD4987EF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71E-EF22-40F5-803E-F40936C1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58DE-87AC-4547-BEF1-B294A056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6F87-59A9-4C8E-AADB-B8DB513C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1DE-AF61-4BCF-BABF-8DBC1906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DC6-7DD6-4E56-A332-EFCC3DF2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402-1C37-44BD-A6D4-177F6F20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95A98-A525-4E1B-B9F6-D846D86035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