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32813"/>
        <c:axId val="3874095"/>
      </c:barChart>
      <c:catAx>
        <c:axId val="67032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4095"/>
        <c:crosses val="autoZero"/>
        <c:auto val="1"/>
        <c:lblAlgn val="ctr"/>
        <c:lblOffset val="100"/>
        <c:noMultiLvlLbl val="0"/>
      </c:catAx>
      <c:valAx>
        <c:axId val="3874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32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3D5-A5DE-4E03-92C4-AC569482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900-A9EC-4E21-93D1-A81DA8A5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B6D-C70C-4081-8BD2-A4EF9BD0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3C4-A79B-4BA3-82BE-96A603E6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4AA-691E-4706-AFD4-75D3772F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767-8336-4024-9BC1-2719EFBE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649-D7BC-4014-A0D6-F62606BB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4E1-2CFF-4576-B25D-E513ECB1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6C7-07B3-4873-848B-51795AE3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A1E-7A88-4468-99E2-263DDBDF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303-1231-4858-8251-4641326A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B48-22EF-4FE9-9E0D-4F766091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44F15-9154-4554-A45D-B38E903F08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